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220BF9E-FDA0-4524-9C85-19CD9F61BEA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 and thank you for the int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the presentation is to describe different grid scheduling infrastructures that can be deployed using Globu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two different infrastructures, we have developed the GRAM adapters required to access a GridWay instance through a GRAM services, it is a way to virtualize a whole Grid, in the first Grid the second Grid is managed a any other re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hierarchies can be deployed with thes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Way interfacing GT WS UCM local grid and Grid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GateWay virtualizing resources from a partner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VO from EGEE - GT p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response of enterprise resources - and therefore less usage of EGE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developed a new SGE Transfer Queue to forward jobs from the cluster to the Grid, the end users submits locally but the job is executed glob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ime for questions. Comments, sugg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ents of the presentation ar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will briefly describe the basic resources that make up a grid comput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wo sections are an introduction to the main part of the presentation: a  proposal of taxonomy for grid computing infra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rsues an scenario where computing power is given or taken (consumer/producer paradigm) from the different components that conform the grid based on the demand and offer of this computing power at a given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the applications layer where the end users can port their codes using the DRMAA standard and interface with the system using a portal or the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 the applications, we have the middleware layer consisting of the GridWay metascheduler on top of the Globus services available in the different resources: MDS…, one… that allows the grid manager to define grid-w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… we have the infrastructure consisting of the cluster resources located in different sites or administrativ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users organized in sites, organization or virtual organizations, that interface with the infrastructure using a sience gateway (Portal or front-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 the applications, we have the middleware layer consisting of several GridWay metaschedulers, one per organization, on top of the Globus services available in the different resources: MDs…, multiple… do not allow the grid manager to define grid-wide…  but organization w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… we have the infrastructure consisting of the cluster resources located in different sites or administrativ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aim is to us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ources are provided in 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cheduling i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3819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47640" cy="685800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72000" y="6581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C7B-6E4D-47A7-A6DC-AC2E9847D7D6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-22778" b="7285"/>
          <a:stretch/>
        </p:blipFill>
        <p:spPr>
          <a:xfrm>
            <a:off x="60480" y="5921280"/>
            <a:ext cx="623880" cy="747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39240" y="665784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SA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41440" indent="-18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8920" y="65390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AB6-FF1E-4370-AA29-20D2BC57BC21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509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nova@fdi.ucm.es" TargetMode="External"/><Relationship Id="rId2" Type="http://schemas.openxmlformats.org/officeDocument/2006/relationships/hyperlink" Target="mailto:tinova@fdi.ucm.es" TargetMode="External"/><Relationship Id="rId3" Type="http://schemas.openxmlformats.org/officeDocument/2006/relationships/hyperlink" Target="mailto:tinova@fdi.ucm.es" TargetMode="External"/><Relationship Id="rId4" Type="http://schemas.openxmlformats.org/officeDocument/2006/relationships/hyperlink" Target="mailto:tinova@fdi.ucm.es" TargetMode="External"/><Relationship Id="rId5" Type="http://schemas.openxmlformats.org/officeDocument/2006/relationships/hyperlink" Target="mailto:tinova@fdi.ucm.es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4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371600"/>
            <a:ext cx="8458200" cy="205740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720" y="2587680"/>
            <a:ext cx="195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PAM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ansk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-12 September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5120" y="3652920"/>
            <a:ext cx="469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Tino       Vázquez             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nova@fdi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m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Javier     Font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Eduardo H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Rubén    S. Mo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Ignacio   M. Llo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istributed Systems Architectur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rcRect l="0" t="0" r="0" b="22989"/>
          <a:stretch/>
        </p:blipFill>
        <p:spPr>
          <a:xfrm>
            <a:off x="914400" y="4038480"/>
            <a:ext cx="990720" cy="121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5240" y="167652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arent Access to Grid-Based Compute Utili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0" t="0" r="87775" b="3486"/>
          <a:stretch/>
        </p:blipFill>
        <p:spPr>
          <a:xfrm>
            <a:off x="7543800" y="41148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311560" y="5918040"/>
            <a:ext cx="4546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360" y="1230480"/>
            <a:ext cx="7916760" cy="57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o use Globus Toolkit services to recursively interface services available in a federated Globus-based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 functionality required to implement a gateway to a federated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 like a utility computing service, providing uniform standard acces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ssion and control of jobs, including file st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Adap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o be able to send jobs to GW via 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Event Gen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or job state change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Information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eed MDS with schedul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800" y="38275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720" y="42670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360" y="914400"/>
            <a:ext cx="791676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Globus firewal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ertificate mapping policies at eac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process divided into different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need to disseminate all system monitor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any GT-compatible third party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W stacks (GT preWS/WS, gLit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4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1844640"/>
            <a:ext cx="4022640" cy="2952720"/>
          </a:xfrm>
          <a:prstGeom prst="roundRect">
            <a:avLst>
              <a:gd name="adj" fmla="val 5162"/>
            </a:avLst>
          </a:prstGeom>
          <a:gradFill rotWithShape="0">
            <a:gsLst>
              <a:gs pos="0">
                <a:srgbClr val="fefefe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8640" y="34783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8640" y="38815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8640" y="23922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8640" y="19890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34783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38815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4797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5760" y="38829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54320" y="3860640"/>
            <a:ext cx="24624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3" idx="2"/>
            <a:endCxn id="201" idx="0"/>
          </p:cNvCxnSpPr>
          <p:nvPr/>
        </p:nvCxnSpPr>
        <p:spPr>
          <a:xfrm flipV="1" rot="10800000">
            <a:off x="1304280" y="2752200"/>
            <a:ext cx="1080" cy="72648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" name=""/>
          <p:cNvCxnSpPr>
            <a:endCxn id="207" idx="0"/>
          </p:cNvCxnSpPr>
          <p:nvPr/>
        </p:nvCxnSpPr>
        <p:spPr>
          <a:xfrm>
            <a:off x="1330200" y="3104640"/>
            <a:ext cx="267264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endCxn id="205" idx="0"/>
          </p:cNvCxnSpPr>
          <p:nvPr/>
        </p:nvCxnSpPr>
        <p:spPr>
          <a:xfrm>
            <a:off x="1339920" y="3104640"/>
            <a:ext cx="1218240" cy="37404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1708200" y="446076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357720"/>
            <a:ext cx="4311720" cy="3240000"/>
          </a:xfrm>
          <a:prstGeom prst="roundRect">
            <a:avLst>
              <a:gd name="adj" fmla="val 5162"/>
            </a:avLst>
          </a:prstGeom>
          <a:gradFill rotWithShape="0">
            <a:gsLst>
              <a:gs pos="0">
                <a:srgbClr val="fefefe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02200" y="53784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429000"/>
            <a:ext cx="720720" cy="1295280"/>
          </a:xfrm>
          <a:custGeom>
            <a:avLst/>
            <a:gdLst>
              <a:gd name="textAreaLeft" fmla="*/ 24120 w 720720"/>
              <a:gd name="textAreaRight" fmla="*/ 696600 w 720720"/>
              <a:gd name="textAreaTop" fmla="*/ 24120 h 1295280"/>
              <a:gd name="textAreaBottom" fmla="*/ 1271160 h 1295280"/>
            </a:gdLst>
            <a:ahLst/>
            <a:rect l="textAreaLeft" t="textAreaTop" r="textAreaRight" b="textAreaBottom"/>
            <a:pathLst>
              <a:path w="21600" h="38811">
                <a:moveTo>
                  <a:pt x="2489" y="0"/>
                </a:moveTo>
                <a:arcTo wR="2489" hR="2489" stAng="16200000" swAng="-5400000"/>
                <a:lnTo>
                  <a:pt x="0" y="36322"/>
                </a:lnTo>
                <a:arcTo wR="2489" hR="2489" stAng="10800000" swAng="-5400000"/>
                <a:lnTo>
                  <a:pt x="19111" y="38811"/>
                </a:lnTo>
                <a:arcTo wR="2489" hR="2489" stAng="5400000" swAng="-5400000"/>
                <a:lnTo>
                  <a:pt x="21600" y="2489"/>
                </a:lnTo>
                <a:arcTo wR="2489" hR="2489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0220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94200" y="4292640"/>
            <a:ext cx="1366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53784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818480" y="5380200"/>
            <a:ext cx="1150920" cy="763560"/>
            <a:chOff x="7818480" y="5380200"/>
            <a:chExt cx="1150920" cy="763560"/>
          </a:xfrm>
        </p:grpSpPr>
        <p:sp>
          <p:nvSpPr>
            <p:cNvPr id="222" name=""/>
            <p:cNvSpPr/>
            <p:nvPr/>
          </p:nvSpPr>
          <p:spPr>
            <a:xfrm>
              <a:off x="7818480" y="53802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8480" y="57834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708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SF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472520" y="57610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8" idx="2"/>
            <a:endCxn id="215" idx="0"/>
          </p:cNvCxnSpPr>
          <p:nvPr/>
        </p:nvCxnSpPr>
        <p:spPr>
          <a:xfrm flipV="1" rot="10800000">
            <a:off x="5577840" y="4652640"/>
            <a:ext cx="1080" cy="72612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endCxn id="222" idx="0"/>
          </p:cNvCxnSpPr>
          <p:nvPr/>
        </p:nvCxnSpPr>
        <p:spPr>
          <a:xfrm>
            <a:off x="5607000" y="5005080"/>
            <a:ext cx="278856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9" idx="0"/>
          </p:cNvCxnSpPr>
          <p:nvPr/>
        </p:nvCxnSpPr>
        <p:spPr>
          <a:xfrm>
            <a:off x="5607000" y="5005440"/>
            <a:ext cx="1218240" cy="3736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5987880" y="625968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13480" y="38894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5216040" y="1960560"/>
            <a:ext cx="1080" cy="1526400"/>
          </a:xfrm>
          <a:prstGeom prst="straightConnector1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944960" y="156996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425d"/>
                </a:solidFill>
                <a:latin typeface="Arial"/>
              </a:rPr>
              <a:t>globus-job-run, Condor/G, Nimrod/G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94200" y="38894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4200" y="34862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endCxn id="233" idx="0"/>
          </p:cNvCxnSpPr>
          <p:nvPr/>
        </p:nvCxnSpPr>
        <p:spPr>
          <a:xfrm>
            <a:off x="1293480" y="3104640"/>
            <a:ext cx="3925080" cy="381960"/>
          </a:xfrm>
          <a:prstGeom prst="bentConnector2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5288760" y="263520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Access to Outsource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95680" y="53737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95680" y="61912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Utility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endCxn id="236" idx="0"/>
          </p:cNvCxnSpPr>
          <p:nvPr/>
        </p:nvCxnSpPr>
        <p:spPr>
          <a:xfrm flipV="1" rot="10800000">
            <a:off x="3270960" y="5001840"/>
            <a:ext cx="2275920" cy="372240"/>
          </a:xfrm>
          <a:prstGeom prst="bentConnector2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963720" y="5589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Virtu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of a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77360" y="347184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ID-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624640" y="3513240"/>
            <a:ext cx="1008000" cy="217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5440" y="528840"/>
            <a:ext cx="763092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Utility Grid Infrastructures with Grid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9712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3240" y="93996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720" y="33526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distributed calcul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al time = 10 seconds per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staging = 10K per ta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3 in U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 in EGEE - much higher 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14400"/>
            <a:ext cx="791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CM resources (Enterprise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EE resources (Partner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ing using GridWay - Utility Gri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Test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960" y="298944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9720" y="34290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How the testbed looks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2332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800" y="838080"/>
            <a:ext cx="7917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of the whole testbed: 408.16 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-house 297.96 jobs/hour vs Partner 121.65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5200" y="2133720"/>
            <a:ext cx="74736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5440" y="879480"/>
            <a:ext cx="6983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Transfer Queues: Seamless access to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9720" y="131904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1360" y="1422360"/>
            <a:ext cx="7916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77840" indent="-177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LRM systems with meta-schedulers (the other w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keep using the same interface, even applications (e.g. DRM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72160" y="2952720"/>
            <a:ext cx="2235240" cy="1376280"/>
          </a:xfrm>
          <a:prstGeom prst="roundRect">
            <a:avLst>
              <a:gd name="adj" fmla="val 8468"/>
            </a:avLst>
          </a:prstGeom>
          <a:gradFill rotWithShape="0">
            <a:gsLst>
              <a:gs pos="0">
                <a:srgbClr val="eee6dc"/>
              </a:gs>
              <a:gs pos="100000">
                <a:srgbClr val="b08b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putr1"/>
          <p:cNvSpPr/>
          <p:nvPr/>
        </p:nvSpPr>
        <p:spPr>
          <a:xfrm>
            <a:off x="4890960" y="3046320"/>
            <a:ext cx="576360" cy="54468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putr1"/>
          <p:cNvSpPr/>
          <p:nvPr/>
        </p:nvSpPr>
        <p:spPr>
          <a:xfrm>
            <a:off x="6283440" y="3046320"/>
            <a:ext cx="576000" cy="54468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putr1"/>
          <p:cNvSpPr/>
          <p:nvPr/>
        </p:nvSpPr>
        <p:spPr>
          <a:xfrm>
            <a:off x="4890960" y="3738600"/>
            <a:ext cx="576360" cy="54432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putr1"/>
          <p:cNvSpPr/>
          <p:nvPr/>
        </p:nvSpPr>
        <p:spPr>
          <a:xfrm>
            <a:off x="6283440" y="3738600"/>
            <a:ext cx="576000" cy="54432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1800" y="4381560"/>
            <a:ext cx="3960720" cy="1855800"/>
          </a:xfrm>
          <a:prstGeom prst="roundRect">
            <a:avLst>
              <a:gd name="adj" fmla="val 4898"/>
            </a:avLst>
          </a:prstGeom>
          <a:gradFill rotWithShape="0">
            <a:gsLst>
              <a:gs pos="0">
                <a:srgbClr val="e1e5ec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368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5144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0424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03680" y="4419720"/>
            <a:ext cx="3651480" cy="1231920"/>
            <a:chOff x="4603680" y="4419720"/>
            <a:chExt cx="3651480" cy="1231920"/>
          </a:xfrm>
        </p:grpSpPr>
        <p:sp>
          <p:nvSpPr>
            <p:cNvPr id="280" name=""/>
            <p:cNvSpPr/>
            <p:nvPr/>
          </p:nvSpPr>
          <p:spPr>
            <a:xfrm>
              <a:off x="7104240" y="52912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3680" y="528984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3680" y="441972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3242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Grid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51440" y="5289840"/>
              <a:ext cx="115128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endCxn id="280" idx="0"/>
            </p:cNvCxnSpPr>
            <p:nvPr/>
          </p:nvCxnSpPr>
          <p:spPr>
            <a:xfrm>
              <a:off x="5207040" y="5035680"/>
              <a:ext cx="2473920" cy="25596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tailEnd len="sm" type="triangle" w="sm"/>
            </a:ln>
          </p:spPr>
        </p:cxnSp>
        <p:cxnSp>
          <p:nvCxnSpPr>
            <p:cNvPr id="285" name=""/>
            <p:cNvCxnSpPr>
              <a:endCxn id="283" idx="0"/>
            </p:cNvCxnSpPr>
            <p:nvPr/>
          </p:nvCxnSpPr>
          <p:spPr>
            <a:xfrm>
              <a:off x="5206680" y="5035680"/>
              <a:ext cx="1221480" cy="25488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tailEnd len="sm" type="triangle" w="sm"/>
            </a:ln>
          </p:spPr>
        </p:cxnSp>
        <p:cxnSp>
          <p:nvCxnSpPr>
            <p:cNvPr id="286" name=""/>
            <p:cNvCxnSpPr>
              <a:stCxn id="282" idx="2"/>
              <a:endCxn id="281" idx="0"/>
            </p:cNvCxnSpPr>
            <p:nvPr/>
          </p:nvCxnSpPr>
          <p:spPr>
            <a:xfrm flipV="1" rot="10800000">
              <a:off x="5179320" y="4779720"/>
              <a:ext cx="1080" cy="51048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287" name=""/>
          <p:cNvSpPr/>
          <p:nvPr/>
        </p:nvSpPr>
        <p:spPr>
          <a:xfrm>
            <a:off x="3292560" y="308628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44920" y="308628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98720" y="308628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042720" y="308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42720" y="3344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92560" y="378792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4920" y="378792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98720" y="378792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42720" y="37879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042720" y="40435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92560" y="447192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4920" y="447192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98720" y="447192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042720" y="44719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42720" y="47275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0160" y="330192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80160" y="402264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89" idx="3"/>
            <a:endCxn id="271" idx="14"/>
          </p:cNvCxnSpPr>
          <p:nvPr/>
        </p:nvCxnSpPr>
        <p:spPr>
          <a:xfrm>
            <a:off x="4051080" y="3213000"/>
            <a:ext cx="8960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3"/>
            <a:endCxn id="273" idx="14"/>
          </p:cNvCxnSpPr>
          <p:nvPr/>
        </p:nvCxnSpPr>
        <p:spPr>
          <a:xfrm flipV="1">
            <a:off x="4051080" y="3909240"/>
            <a:ext cx="896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9" idx="3"/>
            <a:endCxn id="282" idx="1"/>
          </p:cNvCxnSpPr>
          <p:nvPr/>
        </p:nvCxnSpPr>
        <p:spPr>
          <a:xfrm>
            <a:off x="4051440" y="4599000"/>
            <a:ext cx="552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endCxn id="287" idx="1"/>
          </p:cNvCxnSpPr>
          <p:nvPr/>
        </p:nvCxnSpPr>
        <p:spPr>
          <a:xfrm flipV="1">
            <a:off x="2536560" y="3212280"/>
            <a:ext cx="756360" cy="71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endCxn id="292" idx="1"/>
          </p:cNvCxnSpPr>
          <p:nvPr/>
        </p:nvCxnSpPr>
        <p:spPr>
          <a:xfrm flipV="1">
            <a:off x="2536560" y="3914280"/>
            <a:ext cx="756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endCxn id="297" idx="1"/>
          </p:cNvCxnSpPr>
          <p:nvPr/>
        </p:nvCxnSpPr>
        <p:spPr>
          <a:xfrm>
            <a:off x="2536560" y="3922200"/>
            <a:ext cx="756360" cy="67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1736640" y="287028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6640" y="3662280"/>
            <a:ext cx="792360" cy="50508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90000" y="3456000"/>
            <a:ext cx="16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69640" y="446400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ny 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1953720" y="32590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08b5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88520" y="480204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55800" y="5162400"/>
            <a:ext cx="2233440" cy="792360"/>
          </a:xfrm>
          <a:prstGeom prst="wedgeRectCallout">
            <a:avLst>
              <a:gd name="adj1" fmla="val 60662"/>
              <a:gd name="adj2" fmla="val -115930"/>
            </a:avLst>
          </a:prstGeom>
          <a:gradFill rotWithShape="0">
            <a:gsLst>
              <a:gs pos="0">
                <a:srgbClr val="f3f3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 submitted to the cluster but executed in th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</a:rPr>
              <a:t>From the Cluster to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SGE Transfer Queue to Globu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22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that meets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t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2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, secure and reliable functionality to access the u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le, flexible and adaptive infrastructure to provide th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based on standar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loyment requires minimum changes to existing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7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functionality to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cheduling policies for enterprise, partner and utility grid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and certificate manage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 and computation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components to reduce latency and increas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ies to reduce total execution time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ership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7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16923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120" y="-36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581280" y="3787920"/>
            <a:ext cx="189252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7488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719280"/>
            <a:ext cx="76359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 Infra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GateWa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E Transfer Queue to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11360" y="1190520"/>
            <a:ext cx="80517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chnology needed to en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e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different grid archite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ffers the possibility to creat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Federated Gr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pproach aims for the Utility Computing paradig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1. Objectiv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8960" y="4525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What do we want to achie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880" y="8920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1360" y="990720"/>
            <a:ext cx="805176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sioning model which will provi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aptive, flexible and sim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comput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a pay-per-u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the pow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fixed costs (IT becomes variable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unlimited computationa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es flexibility - resource provision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ag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adap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2. Utility Computing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8960" y="32720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0880" y="37116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1360" y="990720"/>
            <a:ext cx="8272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360" y="1050840"/>
            <a:ext cx="8253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” scale infrastructures (campus/enterprise) with one meta-scheduler instance providing  access to resources within the same administration domain that may be running different DRMS and be 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 multiple systems, that could be heterogeneous, 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/centralize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of applications an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return of IT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/Usage max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meta-scheduler that allows the enforce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-wide polic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e.g. resource usage) and provi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7800" y="681120"/>
            <a:ext cx="74325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Deploying Enterprise Grids with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1120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55640" y="1797120"/>
            <a:ext cx="8304840" cy="4154400"/>
            <a:chOff x="755640" y="1797120"/>
            <a:chExt cx="8304840" cy="4154400"/>
          </a:xfrm>
        </p:grpSpPr>
        <p:sp>
          <p:nvSpPr>
            <p:cNvPr id="119" name=""/>
            <p:cNvSpPr/>
            <p:nvPr/>
          </p:nvSpPr>
          <p:spPr>
            <a:xfrm>
              <a:off x="790560" y="1797120"/>
              <a:ext cx="8209080" cy="1189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ef3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560" y="2948040"/>
              <a:ext cx="8209080" cy="1871640"/>
            </a:xfrm>
            <a:prstGeom prst="rect">
              <a:avLst/>
            </a:prstGeom>
            <a:gradFill rotWithShape="0">
              <a:gsLst>
                <a:gs pos="0">
                  <a:srgbClr val="7083a8"/>
                </a:gs>
                <a:gs pos="100000">
                  <a:srgbClr val="e1e5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0560" y="4816440"/>
              <a:ext cx="8209080" cy="1084320"/>
            </a:xfrm>
            <a:prstGeom prst="rect">
              <a:avLst/>
            </a:prstGeom>
            <a:gradFill rotWithShape="0">
              <a:gsLst>
                <a:gs pos="0">
                  <a:srgbClr val="b08b59"/>
                </a:gs>
                <a:gs pos="100000">
                  <a:srgbClr val="eee6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252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b08b5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G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52520" y="247176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0496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898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BS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708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SF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352520" y="3059280"/>
              <a:ext cx="3973680" cy="1447200"/>
              <a:chOff x="1352520" y="3059280"/>
              <a:chExt cx="3973680" cy="1447200"/>
            </a:xfrm>
          </p:grpSpPr>
          <p:sp>
            <p:nvSpPr>
              <p:cNvPr id="127" name=""/>
              <p:cNvSpPr/>
              <p:nvPr/>
            </p:nvSpPr>
            <p:spPr>
              <a:xfrm>
                <a:off x="1352520" y="4144680"/>
                <a:ext cx="115128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52520" y="3059280"/>
                <a:ext cx="115128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3242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</a:rPr>
                  <a:t>Grid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05320" y="4144680"/>
                <a:ext cx="115092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5280" y="4146480"/>
                <a:ext cx="115092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1" name=""/>
              <p:cNvCxnSpPr>
                <a:endCxn id="130" idx="0"/>
              </p:cNvCxnSpPr>
              <p:nvPr/>
            </p:nvCxnSpPr>
            <p:spPr>
              <a:xfrm>
                <a:off x="1963800" y="3771720"/>
                <a:ext cx="2788560" cy="37512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132" name=""/>
              <p:cNvCxnSpPr>
                <a:endCxn id="129" idx="0"/>
              </p:cNvCxnSpPr>
              <p:nvPr/>
            </p:nvCxnSpPr>
            <p:spPr>
              <a:xfrm>
                <a:off x="1963800" y="3771360"/>
                <a:ext cx="1218240" cy="37332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/>
              <p:nvPr/>
            </p:nvCxnSpPr>
            <p:spPr>
              <a:xfrm flipV="1" rot="10800000">
                <a:off x="1928160" y="3418920"/>
                <a:ext cx="1080" cy="72576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34" name=""/>
            <p:cNvSpPr/>
            <p:nvPr/>
          </p:nvSpPr>
          <p:spPr>
            <a:xfrm>
              <a:off x="3830760" y="5241960"/>
              <a:ext cx="2458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8680" y="4565520"/>
              <a:ext cx="2458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4040" y="55832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06720" y="2610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15080" y="446076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16720" y="5031000"/>
              <a:ext cx="3238200" cy="577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ld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nd geographically 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55640" y="4820760"/>
              <a:ext cx="824400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0560" y="2948040"/>
              <a:ext cx="820908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0560" y="1797120"/>
              <a:ext cx="8209080" cy="41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16720" y="3433680"/>
              <a:ext cx="3238200" cy="9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s: MDS, GRAM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id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e scheduling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id-wide poli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720" y="1911240"/>
              <a:ext cx="323820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rtal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/or CLI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11360" y="114300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” scale infrastructures with one or several meta-scheduler instances providing access to resources that belong to different administrative domains (different organizations or partn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-scale, secure and reliable sharing of resources between partners or supply-chain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collaborativ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higher computing power to satisfy peak de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ntralized scheduling system that allows the enforce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-w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Partner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844640"/>
            <a:ext cx="8209080" cy="132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133800"/>
            <a:ext cx="8209080" cy="1871640"/>
          </a:xfrm>
          <a:prstGeom prst="rect">
            <a:avLst/>
          </a:prstGeom>
          <a:gradFill rotWithShape="0">
            <a:gsLst>
              <a:gs pos="0">
                <a:srgbClr val="7083a8"/>
              </a:gs>
              <a:gs pos="100000">
                <a:srgbClr val="e1e5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002200"/>
            <a:ext cx="8209080" cy="1163520"/>
          </a:xfrm>
          <a:prstGeom prst="rect">
            <a:avLst/>
          </a:prstGeom>
          <a:gradFill rotWithShape="0">
            <a:gsLst>
              <a:gs pos="0">
                <a:srgbClr val="b08b59"/>
              </a:gs>
              <a:gs pos="100000">
                <a:srgbClr val="eee6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1760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4861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7004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17600" y="43308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17600" y="32446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0040" y="43308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3322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endCxn id="160" idx="0"/>
          </p:cNvCxnSpPr>
          <p:nvPr/>
        </p:nvCxnSpPr>
        <p:spPr>
          <a:xfrm>
            <a:off x="1928520" y="3957120"/>
            <a:ext cx="278820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endCxn id="159" idx="0"/>
          </p:cNvCxnSpPr>
          <p:nvPr/>
        </p:nvCxnSpPr>
        <p:spPr>
          <a:xfrm>
            <a:off x="1928880" y="3957120"/>
            <a:ext cx="1218240" cy="37404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V="1" rot="10800000">
            <a:off x="1893240" y="3604680"/>
            <a:ext cx="1080" cy="72648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3808440" y="545292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800" y="627120"/>
            <a:ext cx="729000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Deploying Partner Grids with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720" y="1066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3760" y="450864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97200" y="58276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8960" y="27957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37320" y="464652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1800" y="5216400"/>
            <a:ext cx="323820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Admin.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20720" y="5006520"/>
            <a:ext cx="82440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09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3619440"/>
            <a:ext cx="323820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: MDS, GRAM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cheduling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-w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1989000"/>
            <a:ext cx="32385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MAA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ce 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557360"/>
            <a:ext cx="1584360" cy="22813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281320"/>
              <a:gd name="textAreaBottom" fmla="*/ 2204280 h 2281320"/>
            </a:gdLst>
            <a:ahLst/>
            <a:rect l="textAreaLeft" t="textAreaTop" r="textAreaRight" b="textAreaBottom"/>
            <a:pathLst>
              <a:path w="21600" h="31100">
                <a:moveTo>
                  <a:pt x="3600" y="0"/>
                </a:moveTo>
                <a:arcTo wR="3600" hR="3600" stAng="16200000" swAng="-5400000"/>
                <a:lnTo>
                  <a:pt x="0" y="27500"/>
                </a:lnTo>
                <a:arcTo wR="3600" hR="3600" stAng="10800000" swAng="-5400000"/>
                <a:lnTo>
                  <a:pt x="18000" y="31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32529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24861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13640" y="17002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irtu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133800"/>
            <a:ext cx="820908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35002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5640" y="27082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11360" y="1122480"/>
            <a:ext cx="8181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meta-scheduler layers in a hierarchic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provision in a utility fashion (provider/consum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y resources on-demand, making resource provision more adap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mputational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IT costs from fixed to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mless integration of different Grids (The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Grid is handled as any other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 of a Grid as a singl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standard interfaces to virtualize a Grid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5440" y="6001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Utility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1039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Office 2004 Test Drive User</cp:lastModifiedBy>
  <dcterms:modified xsi:type="dcterms:W3CDTF">2007-09-10T14:21:18Z</dcterms:modified>
  <cp:revision>12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014763</vt:r8>
  </property>
  <property fmtid="{D5CDD505-2E9C-101B-9397-08002B2CF9AE}" pid="3" name="_AuthorEmail">
    <vt:lpwstr>llorente@dacya.ucm.es</vt:lpwstr>
  </property>
  <property fmtid="{D5CDD505-2E9C-101B-9397-08002B2CF9AE}" pid="4" name="_AuthorEmailDisplayName">
    <vt:lpwstr>Ignacio Martin Llorente</vt:lpwstr>
  </property>
  <property fmtid="{D5CDD505-2E9C-101B-9397-08002B2CF9AE}" pid="5" name="_EmailSubject">
    <vt:lpwstr>Comentario de Ian Foster y Formato Transparencias</vt:lpwstr>
  </property>
  <property fmtid="{D5CDD505-2E9C-101B-9397-08002B2CF9AE}" pid="6" name="_NewReviewCycle">
    <vt:lpwstr/>
  </property>
</Properties>
</file>